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11.jpeg" ContentType="image/jpeg"/>
  <Override PartName="/ppt/media/image8.wmf" ContentType="image/x-wmf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0F734-7A86-4EE9-8293-2D2B31642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0C104-5C35-4B63-9A52-3D58BC74C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8421E-79CF-45F0-8DB5-30DC59009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06DDE-929E-477B-87BA-34B6D3BD2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0D52C4-1067-4404-A2DB-0FBF982D6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13D97D-FE62-49F0-AAB9-6BD47161B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71097E-623D-41A7-8388-40A1DF013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832F8E-CAB6-4719-AA7F-09B292A43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D383DD-A776-4DFD-8868-50F284AC5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BC63C4-0269-41BD-9A2F-587B5778C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1CED00-662E-4847-A64D-3042A7860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E5031-89BE-4A2D-8EE6-6A8189BCB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78CC99-C61B-4571-A8E2-3E2BC3B25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C6264E-850D-4998-9C91-CDCC04CF2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D1248D-9DC3-444C-81C8-F4C3820C6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500D0A-371E-4C07-959B-E965F1D8A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813E33-6B2F-4F85-B815-126FAA9AC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A8E37-432D-4D1D-BD93-DC22A375C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08893-4B36-4CF5-B262-54DDE8E17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23253-D0B8-41C6-877F-CC983679A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E89BE-B380-4950-BFFE-DAD2E7E28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0A943-C9FA-477E-9425-723F975EC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ABE6D-6321-436B-BA51-E1FCB7152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EF756-2441-4763-AFA3-A416C43B3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DC604-1CDC-4EBA-8279-1B0400339124}" type="slidenum"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7ABBD-6DEB-4E55-923F-38DB9A07D149}" type="slidenum"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280" y="1915920"/>
            <a:ext cx="864072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Arial Rounded MT Bold"/>
              </a:rPr>
              <a:t>Techniques of morphing to stimulate the teaching with technology</a:t>
            </a:r>
            <a:br>
              <a:rPr sz="3200"/>
            </a:br>
            <a:r>
              <a:rPr b="1" lang="fr-FR" sz="2400" spc="-1" strike="noStrike">
                <a:solidFill>
                  <a:srgbClr val="ffffff"/>
                </a:solidFill>
                <a:latin typeface="Arial Rounded MT Bold"/>
              </a:rPr>
              <a:t>Examples within </a:t>
            </a:r>
            <a:br>
              <a:rPr sz="2400"/>
            </a:br>
            <a:r>
              <a:rPr b="1" lang="fr-FR" sz="2400" spc="-1" strike="noStrike">
                <a:solidFill>
                  <a:srgbClr val="ffffff"/>
                </a:solidFill>
                <a:latin typeface="Arial Rounded MT Bold"/>
              </a:rPr>
              <a:t>the TI N’Spire environment and Cabri 3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403280" y="4868640"/>
            <a:ext cx="64008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 Rounded MT Bold"/>
              </a:rPr>
              <a:t>Jean-Jacques Dah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 Rounded MT Bold"/>
              </a:rPr>
              <a:t>IREM of Toulous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 Rounded MT Bold"/>
              </a:rPr>
              <a:t>Paul Sabatier University Toulouse Franc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 Rounded MT Bold"/>
              </a:rPr>
              <a:t>jjdahan@wanadoo.f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108000" y="115920"/>
            <a:ext cx="6840360" cy="118584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7034760" y="334800"/>
            <a:ext cx="2114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Rounded MT Bold"/>
              </a:rPr>
              <a:t>July 1st-5th, 201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 Rounded MT Bold"/>
              </a:rPr>
              <a:t>Krems AUSTR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948360" y="115920"/>
            <a:ext cx="2195640" cy="1187280"/>
          </a:xfrm>
          <a:prstGeom prst="rect">
            <a:avLst/>
          </a:prstGeom>
          <a:solidFill>
            <a:srgbClr val="ffff99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291960"/>
            <a:ext cx="91440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Arial Rounded MT Bold"/>
              </a:rPr>
              <a:t>Morphing surfaces </a:t>
            </a:r>
            <a:br>
              <a:rPr sz="4400"/>
            </a:br>
            <a:r>
              <a:rPr b="0" lang="fr-FR" sz="3200" spc="-1" strike="noStrike">
                <a:solidFill>
                  <a:srgbClr val="ffffff"/>
                </a:solidFill>
                <a:latin typeface="Arial Rounded MT Bold"/>
              </a:rPr>
              <a:t>(with the previous technique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8000" y="2708280"/>
            <a:ext cx="896472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 Rounded MT Bold"/>
              </a:rPr>
              <a:t>Using military perspective in 2D DG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 Rounded MT Bold"/>
              </a:rPr>
              <a:t>               </a:t>
            </a:r>
            <a:r>
              <a:rPr b="0" lang="fr-FR" sz="2400" spc="-1" strike="noStrike">
                <a:solidFill>
                  <a:srgbClr val="ffffff"/>
                </a:solidFill>
                <a:latin typeface="Arial Rounded MT Bold"/>
              </a:rPr>
              <a:t>(Cabri 2 Plus and Graphs &amp; Geometry of TI-Nspire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                                    </a:t>
            </a: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surface pm.fig    08 MORPHING SURFACES.tns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 Rounded MT Bold"/>
              </a:rPr>
              <a:t>Using the 3D graphing tool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 Rounded MT Bold"/>
              </a:rPr>
              <a:t>                </a:t>
            </a:r>
            <a:r>
              <a:rPr b="0" lang="fr-FR" sz="2400" spc="-1" strike="noStrike">
                <a:solidFill>
                  <a:srgbClr val="ffffff"/>
                </a:solidFill>
                <a:latin typeface="Arial Rounded MT Bold"/>
              </a:rPr>
              <a:t>(TI-N’spire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 Rounded MT Bold"/>
              </a:rPr>
              <a:t>                                                             </a:t>
            </a: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08 MORPHING SURFACES.t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Arial Rounded MT Bold"/>
              </a:rPr>
              <a:t>Morphing Fourier sums 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3141360"/>
            <a:ext cx="829152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 Rounded MT Bold"/>
              </a:rPr>
              <a:t>n controlled as an integ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                                    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 Rounded MT Bold"/>
              </a:rPr>
              <a:t>n controlled as a real number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                                     </a:t>
            </a: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09 MORPHING FOURIER SUMS.t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3132000" y="1125360"/>
          <a:ext cx="2592360" cy="1087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132000" y="1125360"/>
                    <a:ext cx="2592360" cy="108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Arial Rounded MT Bold"/>
              </a:rPr>
              <a:t>Modelling a floating flag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2120400"/>
            <a:ext cx="8229600" cy="440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 Rounded MT Bold"/>
              </a:rPr>
              <a:t>First modelling with Cabri 3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                                                                </a:t>
            </a: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Flag Cabri 3D.cg3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 Rounded MT Bold"/>
              </a:rPr>
              <a:t>Improving it with the use of the C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                                                           </a:t>
            </a: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10 FLAG MODELLING.t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771640" y="2924280"/>
            <a:ext cx="3240360" cy="21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Cabri3ActiveDoc1" descr=""/>
          <p:cNvPicPr/>
          <p:nvPr/>
        </p:nvPicPr>
        <p:blipFill>
          <a:blip r:embed="rId2"/>
          <a:stretch/>
        </p:blipFill>
        <p:spPr>
          <a:xfrm>
            <a:off x="1403280" y="476280"/>
            <a:ext cx="6297840" cy="5857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1145880" y="6324480"/>
            <a:ext cx="681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orphing triangle polygone.cg3       morphing carre carre.cg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177840" y="1771560"/>
            <a:ext cx="7850160" cy="352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Thank you 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18" name=""/>
          <p:cNvSpPr/>
          <p:nvPr/>
        </p:nvSpPr>
        <p:spPr>
          <a:xfrm>
            <a:off x="2715480" y="5297400"/>
            <a:ext cx="6129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jjdahan@wanadoo.f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2390760" cy="19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282600"/>
            <a:ext cx="9144000" cy="62197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3560040" y="6524640"/>
            <a:ext cx="144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01 TITLE TIME.t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6868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Arial Rounded MT Bold"/>
              </a:rPr>
              <a:t>From graphs theory to Cabri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"/>
          <p:cNvSpPr/>
          <p:nvPr/>
        </p:nvSpPr>
        <p:spPr>
          <a:xfrm>
            <a:off x="2824200" y="63244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655800" y="6375240"/>
            <a:ext cx="259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ff"/>
                </a:solidFill>
                <a:latin typeface="Tahoma"/>
              </a:rPr>
              <a:t>THEORIE GRAPHES MINI.fi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3" name="CabriGeometreIIPAX1"/>
          <p:cNvGraphicFramePr/>
          <p:nvPr/>
        </p:nvGraphicFramePr>
        <p:xfrm>
          <a:off x="395280" y="1125360"/>
          <a:ext cx="8280360" cy="5183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4" name="CabriGeometreIIPAX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5280" y="1125360"/>
                    <a:ext cx="8280360" cy="518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Rounded MT Bold"/>
              </a:rPr>
              <a:t>Net of a cub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Cabri3ActiveDoc1" descr=""/>
          <p:cNvPicPr/>
          <p:nvPr/>
        </p:nvPicPr>
        <p:blipFill>
          <a:blip r:embed="rId2"/>
          <a:stretch/>
        </p:blipFill>
        <p:spPr>
          <a:xfrm>
            <a:off x="1476360" y="1197000"/>
            <a:ext cx="583236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Arial Rounded MT Bold"/>
              </a:rPr>
              <a:t>1=2=3 theorem!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Cabri3ActiveDoc1" descr=""/>
          <p:cNvPicPr/>
          <p:nvPr/>
        </p:nvPicPr>
        <p:blipFill>
          <a:blip r:embed="rId2"/>
          <a:stretch/>
        </p:blipFill>
        <p:spPr>
          <a:xfrm>
            <a:off x="1403280" y="1125360"/>
            <a:ext cx="5905440" cy="54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Cabri3ActiveDoc1" descr=""/>
          <p:cNvPicPr/>
          <p:nvPr/>
        </p:nvPicPr>
        <p:blipFill>
          <a:blip r:embed="rId2"/>
          <a:stretch/>
        </p:blipFill>
        <p:spPr>
          <a:xfrm>
            <a:off x="1332000" y="260280"/>
            <a:ext cx="626436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291960"/>
            <a:ext cx="91440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Arial Rounded MT Bold"/>
              </a:rPr>
              <a:t>Initial techniques </a:t>
            </a:r>
            <a:br>
              <a:rPr sz="4000"/>
            </a:br>
            <a:r>
              <a:rPr b="0" lang="fr-FR" sz="2800" spc="-1" strike="noStrike">
                <a:solidFill>
                  <a:srgbClr val="ffffff"/>
                </a:solidFill>
                <a:latin typeface="Arial Rounded MT Bold"/>
              </a:rPr>
              <a:t>(using a special invariant in Cabri construction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8000" y="2987640"/>
            <a:ext cx="8964720" cy="31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ffcc00"/>
              </a:buClr>
              <a:buSzPct val="120000"/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 Rounded MT Bold"/>
              </a:rPr>
              <a:t>An example to show this property    </a:t>
            </a: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02 INITIAL IDEA.t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 Rounded MT Bold"/>
              </a:rPr>
              <a:t>Morphing segments onto arcs or segmen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 Rounded MT Bold"/>
              </a:rPr>
              <a:t>                                                                  </a:t>
            </a: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03 INITIAL TECHNIQUES.t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291960"/>
            <a:ext cx="91440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Arial Rounded MT Bold"/>
              </a:rPr>
              <a:t>Morphing with graphs </a:t>
            </a:r>
            <a:br>
              <a:rPr sz="4400"/>
            </a:br>
            <a:r>
              <a:rPr b="0" lang="fr-FR" sz="3200" spc="-1" strike="noStrike">
                <a:solidFill>
                  <a:srgbClr val="ffffff"/>
                </a:solidFill>
                <a:latin typeface="Arial Rounded MT Bold"/>
              </a:rPr>
              <a:t>(where graphs are squares, circles, astroid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8000" y="2769840"/>
            <a:ext cx="8964720" cy="34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ffcc00"/>
              </a:buClr>
              <a:buSzPct val="120000"/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 Rounded MT Bold"/>
              </a:rPr>
              <a:t>Using functions                    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04 MORPHING CURVES OF FUNCTIONS.t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 Rounded MT Bold"/>
              </a:rPr>
              <a:t>Using parametric and polar funct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 Rounded MT Bold"/>
              </a:rPr>
              <a:t>                                                      </a:t>
            </a: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05 circle square astroid param.t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                                             </a:t>
            </a:r>
            <a:r>
              <a:rPr b="0" lang="it-IT" sz="1200" spc="-1" strike="noStrike">
                <a:solidFill>
                  <a:srgbClr val="ffffff"/>
                </a:solidFill>
                <a:latin typeface="Tahoma"/>
              </a:rPr>
              <a:t>06 morphing square circle polar.t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291960"/>
            <a:ext cx="91440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Arial Rounded MT Bold"/>
              </a:rPr>
              <a:t>Morphing numbers </a:t>
            </a:r>
            <a:br>
              <a:rPr sz="4400"/>
            </a:br>
            <a:r>
              <a:rPr b="0" lang="fr-FR" sz="3200" spc="-1" strike="noStrike">
                <a:solidFill>
                  <a:srgbClr val="ffffff"/>
                </a:solidFill>
                <a:latin typeface="Arial Rounded MT Bold"/>
              </a:rPr>
              <a:t>(with barycentres, dilations, slider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8000" y="2914560"/>
            <a:ext cx="896472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 Rounded MT Bold"/>
              </a:rPr>
              <a:t>1 onto 3 (basic technique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 Rounded MT Bold"/>
              </a:rPr>
              <a:t>2 onto 4 (advanced technique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 Rounded MT Bold"/>
              </a:rPr>
              <a:t>                                                             </a:t>
            </a: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07 MORPHING NUMBERS.t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6-03T10:02:56Z</dcterms:created>
  <dc:creator>DAHAN Jean-Jacques</dc:creator>
  <dc:description/>
  <dc:language>en-US</dc:language>
  <cp:lastModifiedBy>DAHAN Jean-Jacques</cp:lastModifiedBy>
  <dcterms:modified xsi:type="dcterms:W3CDTF">2014-09-22T16:34:01Z</dcterms:modified>
  <cp:revision>16</cp:revision>
  <dc:subject/>
  <dc:title>Techniques of morphing to stimulate the teaching with technology Examples within  the TI N’Spire environment and Cabri 3D</dc:title>
</cp:coreProperties>
</file>